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302-ADA3-4EC8-9FC0-CE8C60C8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750-F2C0-45EE-A86A-A7CC8A4F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824-2021-4FB2-B456-A58CEF8E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016-B7C0-4EA8-8658-732C1123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51EB-C56A-481D-9117-223DE730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C0A5-7492-44BF-BAA6-2D3D267B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056B-B986-4FD3-9AC0-4A3F49CB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6873-D67F-467A-B11F-B3D035A0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105C-FF92-405F-95A2-AF80FBF1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E3C0-25FF-4098-9CB8-4FCE65B0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F128-9F48-4743-AFD3-57EE9C92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6E6-F955-48E9-9C52-CF2DF135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1756-2A12-4D9D-BF68-A8CD8663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902B-922F-406D-8805-D0132D50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8B7C-B0E7-42C1-8EC7-3AC1BAE3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9E98-2529-45C4-A64B-204F1AA9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5505-7350-4D1C-8A04-57992966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1C5-0BED-4653-8960-A2737D23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809-08AA-414F-BA5B-0E66F4CA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F3C-50DA-47BC-BE60-00DAB5C2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E2A-F3C5-45A4-8838-D6D3A6E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E48-3370-4749-ABCF-808CFD8B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406-3229-4356-95DD-032C9DD3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20A-A67D-467E-9193-A4D22652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9D61-845C-4702-B05E-7ED231309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FD8C-C1ED-4B03-A73E-D49C99CE9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Exponent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11840" y="3200400"/>
            <a:ext cx="41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 x 2 x 2 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3200400"/>
            <a:ext cx="64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2960" y="3048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9152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3960" y="3352680"/>
            <a:ext cx="27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 x 3 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335268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30840" y="3276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8320" y="3352680"/>
            <a:ext cx="549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 x 5 x 5 x 5 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335268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3200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100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the Exponen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8320" y="3124080"/>
            <a:ext cx="549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8 x 8 x 8 x 8 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312408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26120" y="3048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680" y="37339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1520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the Exponen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8840" y="3048120"/>
            <a:ext cx="686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7 x 7 x 7 x 7 x 7 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3048120"/>
            <a:ext cx="64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3320" y="29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5820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4114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the Exponen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21320" y="2971800"/>
            <a:ext cx="27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9 x 9 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297180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30840" y="29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038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to Multiply Out an Exponent to Find the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tandard For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5360" y="2133720"/>
            <a:ext cx="549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 3 x 3 x 3 x 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213372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16880" y="3134520"/>
            <a:ext cx="500760" cy="525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34290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613040" y="3149640"/>
            <a:ext cx="463320" cy="558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42360" y="4141800"/>
            <a:ext cx="373680" cy="403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452920" y="3164760"/>
            <a:ext cx="1170000" cy="1452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4343400"/>
            <a:ext cx="119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70720" y="5140080"/>
            <a:ext cx="317160" cy="311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029280" y="3236040"/>
            <a:ext cx="1882800" cy="2303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7120" y="525780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8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11120" y="2057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Exponent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Standard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0400" y="281952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9920" y="2743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6440" y="28954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3886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2819520"/>
            <a:ext cx="10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Exponent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Standard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81952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9920" y="2743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6440" y="28954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3886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1320" y="2819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Exponent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Standard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281952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9920" y="2743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6440" y="28954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3886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2819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j0234686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1360440" cy="1451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64040" y="0"/>
            <a:ext cx="777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or Learning to Happen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743200"/>
            <a:ext cx="8053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ear your desk of anything that ma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act yo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move all other thoughts from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y close atten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y all the exampl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gnore all other distract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Base and Exponent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Standard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2819520"/>
            <a:ext cx="6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39920" y="2743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6440" y="28954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3886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2819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12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ponents Are Often Used in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rea Problems to Show the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eet Are Squar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438280"/>
            <a:ext cx="655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Times New Roman"/>
              </a:rPr>
              <a:t>Length x width = are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pool is a rectang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ngth = 30 f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dth = 15 f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rea = 30 x 15 = 450 ft.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1720" y="51814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2209680"/>
            <a:ext cx="1447920" cy="2819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2590920"/>
            <a:ext cx="11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5200" y="38098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f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91520" y="2209680"/>
            <a:ext cx="0" cy="2743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320040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ponents Are Often Used in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Volume Problems to Show the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entimeters Are Cub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2076480"/>
            <a:ext cx="784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Length x width x height = volu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box is a rect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= 10 c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dth = 10 c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ght = 20 c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 x 10 x 10 = 2,000 c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73840" y="5867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81680" y="3048120"/>
            <a:ext cx="1366920" cy="25146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772400" y="441972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510552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0280" y="34290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54360" y="3886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21000" y="4724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1360" y="35053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re Are Some Areas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hange Them to Expon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2076480"/>
            <a:ext cx="7848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0 feet squared = 40 ft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56 sq. inches = 56 in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38 m. squared = 38 m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56 sq. cm. = 56 cm.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97520" y="2057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40320" y="28954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29400" y="3654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83120" y="4495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re Are Some Volumes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hange Them to Expon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2076480"/>
            <a:ext cx="7848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30 feet cubed = 30 ft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26 cu. inches = 26 in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4 m. cubed = 44 m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56 cu. cm. = 56 cm.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1981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40320" y="28954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35760" y="3733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83120" y="4495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ocation of Expon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nent is a little number high and to the right of a regular or base numb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50120" y="4038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11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952880"/>
            <a:ext cx="9144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943240" y="4419720"/>
            <a:ext cx="6858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43000" y="44928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42520" y="403560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efinition of Expon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nent tells how many times a number is multiplied by itself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50120" y="4038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11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4952880"/>
            <a:ext cx="9144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943240" y="4419720"/>
            <a:ext cx="6858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4928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42520" y="403560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an Exponent Repres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nent tells how many times a number is multiplied by itsel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1280" y="41911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7080" y="3962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3280" y="4114800"/>
            <a:ext cx="609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 3 x 3 x 3 x 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to read an Expon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xponent is read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ree to the fourth pow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50120" y="4038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11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4952880"/>
            <a:ext cx="9144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943240" y="4419720"/>
            <a:ext cx="6858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43000" y="44928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2520" y="403560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to read an Expon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xponent is read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ree to the 2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power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three squar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0120" y="4038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11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952880"/>
            <a:ext cx="9144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943240" y="4419720"/>
            <a:ext cx="6858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43000" y="44928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2520" y="403560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to read an Expon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xponent is read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ree to the 3rd power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three cub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50120" y="4038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11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4952880"/>
            <a:ext cx="9144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943240" y="4419720"/>
            <a:ext cx="6858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3000" y="44928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2520" y="403560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ead These Expon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6920" y="32004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320040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920" y="32767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6120" y="32767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51040" y="407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4280" y="3352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0800" y="3352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3280" y="3352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9800" y="3352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6T04:44:18Z</dcterms:created>
  <dc:creator>Monica/Bob Yuskaitis</dc:creator>
  <dc:description/>
  <dc:language>en-US</dc:language>
  <cp:lastModifiedBy>Monica/Bob Yuskaitis</cp:lastModifiedBy>
  <dcterms:modified xsi:type="dcterms:W3CDTF">2000-02-06T14:52:11Z</dcterms:modified>
  <cp:revision>9</cp:revision>
  <dc:subject/>
  <dc:title>Exponents</dc:title>
</cp:coreProperties>
</file>